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AB1A-DFDA-4F76-BC3A-2F637720B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DBE9-2031-4EC1-B490-2FA74FC69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7CAB-63FE-4037-90BB-6742077B6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37E9-FDAB-48F1-BC95-77881B46A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B0C0-C014-4AAF-9CA6-C648D9E06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11A3-9A3D-4E54-B9AB-91289FF96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D800-0F38-42B3-B9D7-4B690F4D2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0068-FF6B-43A6-8C31-144A8EF20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2C56-E3F9-4D0B-9532-ADEBFEAFD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BD34-2E7A-4226-A207-BC38F3A4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BE99-CEA9-4D6F-91D1-EF1BE9FF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BAB6-5B25-491D-9E04-435F68F74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22DDD-C0B9-45AE-B294-02168128E9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99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S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ysergic acid diethylam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Demi Haar and Justin Morr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800080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ysergic acid diethylamide, an hallucinogen. LSD is an abbreviation of the German term Lysergsaure-Diathylamid for lysergic acid diethylamid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SD is a hallucinogenic dr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et/Other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’s it us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D is licked or swallowed off of 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sules and liquids are also swallo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D users drew th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295280" y="4267080"/>
            <a:ext cx="7010640" cy="2286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648320" y="28954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7575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es it do to m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use LSD your senses of space, distance, and time become alte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say they hear colors or see sou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s are unpredictable thou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experience dilated pupils, increased heart rate, blood pressure, muscle twitches, shaking, sweating, sleeplessness, and loss of appet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543800" y="324000"/>
            <a:ext cx="137160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80"/>
            </a:gs>
            <a:gs pos="50000">
              <a:srgbClr val="00ffff"/>
            </a:gs>
            <a:gs pos="100000">
              <a:srgbClr val="8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.R.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you’re on an “acid trip”, you can’t get off till the drug’s done with you – in about twelve h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SD can cause “bad trips”, users experience panic, confusion, sadness, and scary images, which later cause flashbacks of “bad trip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’s made 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SD is a colorless, odorless drug with a bitter tas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made from ergot, a brown, toxic (poisonous) mold that grows on rye, and other grai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emical formula for LSD is C20H25N3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3T13:17:17Z</dcterms:created>
  <dc:creator>SETUP</dc:creator>
  <dc:description/>
  <dc:language>en-US</dc:language>
  <cp:lastModifiedBy>FCPS</cp:lastModifiedBy>
  <dcterms:modified xsi:type="dcterms:W3CDTF">2010-03-24T17:40:03Z</dcterms:modified>
  <cp:revision>4</cp:revision>
  <dc:subject/>
  <dc:title>LSD lysergic acid diethylamide</dc:title>
</cp:coreProperties>
</file>